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1C5C-EDA6-49EF-880A-484E70CD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BC193-35EE-438B-8CAD-561AC4BF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98C1-8298-4915-BC43-D0FD208F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52CA-69C7-4D22-88F2-1E6DCAF5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55EBC-1C6F-4086-AF05-FC1C8205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D49CE-5D6D-402A-9E1B-A49A63A5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5F865-3172-4632-B91B-ACDF14E9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09B81-50DE-4B93-AEFC-2FC7FCA6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23C07-1219-438A-A877-E12326A7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372A7-9425-4233-AEE2-C2765E71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944B3-DE13-449B-BB0F-7922E40A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F580-E706-418C-99FE-966D1A2E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38F76-5575-4777-82DD-E4A9D85E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250E5-BDB0-4CC8-8355-543EB584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1D3F0-F521-49A2-A49E-C97E06A6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6E46F-BC0A-4308-83E5-19C25A84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BAB1E-AED2-4689-8617-B0E61AF8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A3CA-C0ED-4DC6-83A8-B39AD3FE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ADFB-512E-4FB3-B1EF-10606D51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270C-3CDA-4B80-AB9E-EB4DEC05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4EED-A3A9-48D0-A72F-A575B8CC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4A79-83E2-4177-BB1C-09072E59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F53FE-6D91-4E1D-B6EC-2256E4C3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2927-0E0B-4AA3-A6F7-5831618E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0"/>
            <a:ext cx="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0" y="0"/>
            <a:ext cx="1440" cy="1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31B86-E0AB-48EB-BA06-CC852D4285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0" y="0"/>
            <a:ext cx="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41240" y="302400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4"/>
          </p:nvPr>
        </p:nvSpPr>
        <p:spPr>
          <a:xfrm>
            <a:off x="0" y="0"/>
            <a:ext cx="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5"/>
          </p:nvPr>
        </p:nvSpPr>
        <p:spPr>
          <a:xfrm>
            <a:off x="0" y="0"/>
            <a:ext cx="1440" cy="1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3028F-6B4B-4290-8B9D-1AF84D9406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6"/>
          </p:nvPr>
        </p:nvSpPr>
        <p:spPr>
          <a:xfrm>
            <a:off x="0" y="0"/>
            <a:ext cx="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6680" y="4857480"/>
            <a:ext cx="8567640" cy="15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KILLED BUZZ LIGHT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6680" y="3203280"/>
            <a:ext cx="856764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ab Repor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8160" y="801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ink Lab: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306520" y="226224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ink Lab: color&amp;sm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e water: clear,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ater: clear,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: clear,strong 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negar: clear, od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pe Juice: purple reddish dark,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monade: Yellow, lemon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&amp;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: If the culprit was Ariel then she is responsible for the crime because she has most evidence on 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clusion my hypothesis was mostly likely correct, Ariel is the most likely su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0173673</cp:lastModifiedBy>
  <dcterms:modified xsi:type="dcterms:W3CDTF">2010-10-04T14:04:30Z</dcterms:modified>
  <cp:revision>4</cp:revision>
  <dc:subject/>
  <dc:title>Who killed buzz light year?</dc:title>
</cp:coreProperties>
</file>