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1335-97B2-4969-B7AB-F18C3C47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8259-C562-48CE-A70B-0AFDF842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A5AC-955F-4294-B564-544A0AD7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230D-F53C-4AB6-8E61-8F08848E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98C98-8D1A-4DC5-98A9-4C334F0E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81E72-4165-4215-B02C-C5DE4948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9DBB3-8611-4C83-95DA-3A9FCABA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60707-D96E-4A67-9F9F-B183534F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468FF-EB3F-4326-8D41-67FD5C8C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64BCA-623A-428E-BA54-5A80BC53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6A804-D1B0-4B54-84BA-457BB0D3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ECD7-1D97-4BE3-8E07-22C2FCB4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EB745-FB86-4767-B0AA-8BB512BF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CF155-5460-41EA-BE77-A61AC144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73427-2FD9-417A-A5B3-3E61157A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E6E69-3817-4ADF-94E3-AE6431FD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49374-27EE-4920-8C6B-7F4D8388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367A-7E04-40BF-9D2D-291944FC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8F45-472E-4E76-B10B-368419B9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2C66-240B-4734-AFF5-13FE5099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7A7B-6428-4CD1-8D90-B208063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D086-74D8-4E3C-BFED-796427F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0100-4503-4767-B2DE-E9DD1F51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83BF-586D-41EF-819D-CBD1775E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0" y="0"/>
            <a:ext cx="1440" cy="1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1CB62-4C77-460B-8062-FA6CB24172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1240" y="302400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5"/>
          </p:nvPr>
        </p:nvSpPr>
        <p:spPr>
          <a:xfrm>
            <a:off x="0" y="0"/>
            <a:ext cx="1440" cy="1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06E50-A6FF-4F7D-9F1A-C498EA884E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6"/>
          </p:nvPr>
        </p:nvSpPr>
        <p:spPr>
          <a:xfrm>
            <a:off x="0" y="0"/>
            <a:ext cx="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6680" y="4857480"/>
            <a:ext cx="856764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KILLED BUZZ LIGH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6680" y="3203280"/>
            <a:ext cx="856764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ab Repor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8160" y="801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306520" y="22622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 color&amp;sm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water: clear,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ater: clear,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: clear,strong 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negar: clear, od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e Juice: purple reddish dark,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monade: Yellow, lemon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&amp;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: If the culprit was Ariel then she is responsible for the crime because she has most evidence on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 my hypothesis was mostly likely correct, Ariel is the most likely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0173673</cp:lastModifiedBy>
  <dcterms:modified xsi:type="dcterms:W3CDTF">2010-10-04T14:04:30Z</dcterms:modified>
  <cp:revision>4</cp:revision>
  <dc:subject/>
  <dc:title>Who killed buzz light year?</dc:title>
</cp:coreProperties>
</file>