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7D2C-ACB9-498C-AF0C-3AC7B4CE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F3F9-F0B5-4494-8EFF-CA82BEA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2B3F-11A5-4B54-8795-8B931E27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1ABC-4E32-4D4C-A750-EDC2EC53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ECAA-80FC-4BEB-B7FE-C007DBBA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0CD6C-0C5E-4537-A22D-5BBF29A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E2BF0-7510-41AC-80C9-9B8B1297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0E109-9219-4CA9-B49D-6BD14CE2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D74C-814E-4BAA-B7ED-40AEE9E4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4E80-C5BA-4075-87B2-A314452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5DF9-0881-4138-8B53-4E890F3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A3F5-8F8D-43D7-AF86-C1AD1CF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ED74F-94A9-4675-A858-C2E0451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9C91-3246-4B27-9ED0-0E158E6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6301D-F2E8-4963-8498-AD75AEF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B0E53-3EC4-421B-84C9-CE4A2140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A9894-68E7-4788-9E4C-770BBFC7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3B49-D9EC-4D8A-9172-AB4E25DF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9F90-471D-4AA3-B043-F041D8A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B1FE-23FA-4E9F-ABAF-BF7562FB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05D0-9C61-4632-A37B-63FB256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E3C4-902A-4203-8236-EB7E25D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CF5C-ACA5-4728-9B07-908ED64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4B2B-5FC0-469B-84DC-C085854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30373-673C-4EAE-82CD-0D2DDF3B30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5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34AA9-642B-4FD8-9632-4BB02ABC5B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6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KILLED BUZZ LIGH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b Repor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&amp;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: If the culprit was Ariel then she is responsible for the crime because she has most evidence on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 my hypothesis was mostly likely correct, Ariel is the most likely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0173673</cp:lastModifiedBy>
  <dcterms:modified xsi:type="dcterms:W3CDTF">2010-10-04T14:04:30Z</dcterms:modified>
  <cp:revision>4</cp:revision>
  <dc:subject/>
  <dc:title>Who killed buzz light year?</dc:title>
</cp:coreProperties>
</file>