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8DDE-60BB-48A7-9A4E-504653D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C7C2-90A2-43E5-BD05-4B8CA723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4AF0-73E2-4CC5-BC54-08A36D8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3F6A-F9D4-476F-A975-6D6AE340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6BAE5-E63A-4A54-8324-91F20BBB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7FFB-8D82-4D07-9F60-8B37D0D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A964-B0CC-4D9E-BA71-DE4E3F6E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E4D8A-C592-413E-872B-CC871504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A7A54-B18C-422E-AE9F-A35F30A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02104-7A85-43C7-87A6-E89997C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A337F-016F-48A4-9DBE-A44B09B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9F1B-3EC7-4903-9152-840F20B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2899D-1FAE-4649-8333-FD4ACC4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C7C75-DDD7-410D-8BEA-9E78A1C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E1AE-45FC-456D-91E9-B872D123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DDB8-E721-4BBB-AD5F-935B5B1D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714B-AEE9-43F7-96E5-E44CDCC8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3E0C-E4E8-4EFB-988C-A04BEA2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8EA6-5947-4465-8338-096C85E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ED72-D181-436C-86C8-09E7E26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3F63-D79B-4E64-8379-489F8A88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7683-65C7-42A3-9EBB-D7B3CE8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6AA1-67BD-4417-AB62-53BD1B15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3D22-18C4-4C0D-B085-AD550BB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C1963-1BFE-48BE-9613-365254B140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5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A596D-C47A-47FC-83C3-CC29A525B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6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KILLED BUZZ LIGH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b Repor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&amp;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: If the culprit was Ariel then she is responsible for the crime because she has most evidence on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 my hypothesis was mostly likely correct, Ariel is the most likely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0173673</cp:lastModifiedBy>
  <dcterms:modified xsi:type="dcterms:W3CDTF">2010-10-04T14:04:30Z</dcterms:modified>
  <cp:revision>4</cp:revision>
  <dc:subject/>
  <dc:title>Who killed buzz light year?</dc:title>
</cp:coreProperties>
</file>