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type="hdr"/>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7"/>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ftr" idx="8"/>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sldNum" idx="9"/>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7478B-C737-4710-A17C-805A1D0774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6" name="PlaceHolder 5"/>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6"/>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12920" y="1027080"/>
            <a:ext cx="4933800" cy="3700440"/>
          </a:xfrm>
          <a:prstGeom prst="rect">
            <a:avLst/>
          </a:prstGeom>
          <a:ln w="0">
            <a:noFill/>
          </a:ln>
        </p:spPr>
      </p:sp>
      <p:sp>
        <p:nvSpPr>
          <p:cNvPr id="10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Slide Number Placeholder 3"/>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BD331-6CE2-4150-BE07-C7B591DFC0A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35EB20-98CE-4201-9D35-1E688319F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03FA40-A476-46D9-9620-254703FF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CB4D88-18F1-4A69-8B01-A7EFEBFE1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CFC20A-4B73-4B08-AFB6-B637C010E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B158C0-0A0E-4DED-AD47-6684275E4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A8EC82-35FC-4027-9F66-3856993F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915BEB-A50F-41F6-8D57-D4CBB1FD1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402C22-1061-40D8-9189-4618D65C7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A8D028-955C-4E79-A51E-000C7D1BD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85C1FF-D59C-4801-AF1E-6D0A248BC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91D139-4DD4-4BB0-A4EC-06CF212E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4DE795-DB35-480D-B812-6A42DEA9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570F90-08A9-4879-9D3E-46477D13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2F4DE3-3593-41BE-BE37-701EFE69C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FB58E7-46FC-454E-BF09-4BCB51427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C39C56-9BED-4407-A2C2-564B90978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381435-95EA-4266-8981-4ACE73EF0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EAFE2A-D3C4-42FA-951A-7EA68E44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C1C900-4A2E-4651-8738-A1EB4BD4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928826-F24A-43D4-B8D1-CDA2EE4E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69E623-F391-4656-A618-AF212FFD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D9A17A-1A61-4FC4-BC5A-D5865BA7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D45C37-F33E-490E-9836-1B960301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1BE954-73F7-4647-A63D-F9BF548BD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995F2-44A5-475F-9068-3BF6EC613FE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type="sldNum" idx="5"/>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B0F2A-65A1-4723-8842-82A694CD84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4"/>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1680"/>
            <a:ext cx="3316320" cy="1279440"/>
          </a:xfrm>
          <a:prstGeom prst="rect">
            <a:avLst/>
          </a:prstGeom>
          <a:noFill/>
          <a:ln w="0">
            <a:noFill/>
          </a:ln>
        </p:spPr>
        <p:txBody>
          <a:bodyPr lIns="0" rIns="0" tIns="0" bIns="0" anchor="b">
            <a:noAutofit/>
          </a:bodyPr>
          <a:p>
            <a:pPr indent="0">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ho killed buzz light year?</a:t>
            </a:r>
            <a:endParaRPr b="0" lang="en-US" sz="2000" spc="-1" strike="noStrike">
              <a:solidFill>
                <a:srgbClr val="000000"/>
              </a:solidFill>
              <a:latin typeface="Arial"/>
            </a:endParaRPr>
          </a:p>
        </p:txBody>
      </p:sp>
      <p:sp>
        <p:nvSpPr>
          <p:cNvPr id="89" name=""/>
          <p:cNvSpPr txBox="1"/>
          <p:nvPr/>
        </p:nvSpPr>
        <p:spPr>
          <a:xfrm>
            <a:off x="3820680" y="198000"/>
            <a:ext cx="5635800" cy="645156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90" name="PlaceHolder 2"/>
          <p:cNvSpPr>
            <a:spLocks noGrp="1"/>
          </p:cNvSpPr>
          <p:nvPr>
            <p:ph/>
          </p:nvPr>
        </p:nvSpPr>
        <p:spPr>
          <a:xfrm>
            <a:off x="504720" y="1580760"/>
            <a:ext cx="3316320" cy="517212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000000"/>
                </a:solidFill>
                <a:latin typeface="Arial"/>
              </a:rPr>
              <a:t>Lab </a:t>
            </a:r>
            <a:r>
              <a:rPr b="0" lang="en-US" sz="8500" spc="-1" strike="noStrike">
                <a:solidFill>
                  <a:srgbClr val="000000"/>
                </a:solidFill>
                <a:latin typeface="Arial"/>
              </a:rPr>
              <a:t>Report</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76040" y="5290920"/>
            <a:ext cx="6048360" cy="625320"/>
          </a:xfrm>
          <a:prstGeom prst="rect">
            <a:avLst/>
          </a:prstGeom>
          <a:noFill/>
          <a:ln w="0">
            <a:noFill/>
          </a:ln>
        </p:spPr>
        <p:txBody>
          <a:bodyPr lIns="0" rIns="0" tIns="0" bIns="0" anchor="b">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Drink Lab</a:t>
            </a:r>
            <a:endParaRPr b="0" lang="en-US" sz="3600" spc="-1" strike="noStrike">
              <a:solidFill>
                <a:srgbClr val="000000"/>
              </a:solidFill>
              <a:latin typeface="Arial"/>
            </a:endParaRPr>
          </a:p>
        </p:txBody>
      </p:sp>
      <p:pic>
        <p:nvPicPr>
          <p:cNvPr id="92" name="" descr=""/>
          <p:cNvPicPr/>
          <p:nvPr/>
        </p:nvPicPr>
        <p:blipFill>
          <a:blip r:embed="rId1"/>
          <a:stretch/>
        </p:blipFill>
        <p:spPr>
          <a:xfrm>
            <a:off x="1976040" y="674280"/>
            <a:ext cx="6048360" cy="4537080"/>
          </a:xfrm>
          <a:prstGeom prst="rect">
            <a:avLst/>
          </a:prstGeom>
          <a:ln w="0">
            <a:noFill/>
          </a:ln>
        </p:spPr>
      </p:pic>
      <p:sp>
        <p:nvSpPr>
          <p:cNvPr id="93" name="PlaceHolder 2"/>
          <p:cNvSpPr>
            <a:spLocks noGrp="1"/>
          </p:cNvSpPr>
          <p:nvPr>
            <p:ph/>
          </p:nvPr>
        </p:nvSpPr>
        <p:spPr>
          <a:xfrm>
            <a:off x="1991880" y="5913000"/>
            <a:ext cx="6048360" cy="88740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e of the clues found at the crime scene was a mysterious clear liquid and t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8160" y="8017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Density</a:t>
            </a:r>
            <a:endParaRPr b="0" lang="en-US" sz="4400" spc="-1" strike="noStrike">
              <a:solidFill>
                <a:srgbClr val="000000"/>
              </a:solidFill>
              <a:latin typeface="Arial"/>
            </a:endParaRPr>
          </a:p>
        </p:txBody>
      </p:sp>
      <p:pic>
        <p:nvPicPr>
          <p:cNvPr id="95" name="Picture 2" descr=""/>
          <p:cNvPicPr/>
          <p:nvPr/>
        </p:nvPicPr>
        <p:blipFill>
          <a:blip r:embed="rId1"/>
          <a:stretch/>
        </p:blipFill>
        <p:spPr>
          <a:xfrm>
            <a:off x="2306520" y="2262240"/>
            <a:ext cx="5715000" cy="44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 color&amp;smell </a:t>
            </a:r>
            <a:endParaRPr b="0" lang="en-US" sz="4400" spc="-1" strike="noStrike">
              <a:solidFill>
                <a:srgbClr val="000000"/>
              </a:solidFill>
              <a:latin typeface="Arial"/>
            </a:endParaRPr>
          </a:p>
        </p:txBody>
      </p:sp>
      <p:sp>
        <p:nvSpPr>
          <p:cNvPr id="9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9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Pure water: clear,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Salt water: clear, 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Alcohol: clear,strong sting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inegar: clear, odd ?</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Grape Juice: purple reddish dark,grape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Lemonade: Yellow, lemon lik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thesis &amp; Conclusion</a:t>
            </a:r>
            <a:endParaRPr b="0" lang="en-US" sz="4400" spc="-1" strike="noStrike">
              <a:solidFill>
                <a:srgbClr val="000000"/>
              </a:solidFill>
              <a:latin typeface="Arial"/>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onclusion the hypothesis was mostly likely correct, Ariel is the most likely suspec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dcterms:modified xsi:type="dcterms:W3CDTF">2010-10-04T14:20:57Z</dcterms:modified>
  <cp:revision>6</cp:revision>
  <dc:subject/>
  <dc:title>Who killed buzz light year?</dc:title>
</cp:coreProperties>
</file>