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79461F-D47C-42FB-99A1-86FA0F90DE9F}"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12920" y="1027080"/>
            <a:ext cx="4933800" cy="3700440"/>
          </a:xfrm>
          <a:prstGeom prst="rect">
            <a:avLst/>
          </a:prstGeom>
          <a:ln w="0">
            <a:noFill/>
          </a:ln>
        </p:spPr>
      </p:sp>
      <p:sp>
        <p:nvSpPr>
          <p:cNvPr id="19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2"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E3B3C2-2298-46D5-8C03-05EF270A4FB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AE20304-06BA-40F9-99E7-92877811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9E27EE-0139-421C-A379-22102B4B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9AB2022-2EB0-4113-8F62-97670745D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8CF1D1B-2C19-4C59-8372-C02AABB95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633D2C8-9B7C-4F08-8DEE-C02B61807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AFAA706-85E4-468E-89AC-27C910D70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47CC5D-26D8-4236-B89B-90394746E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86B3E5-D2A6-4354-987D-B08B0C619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F46622-DFEB-4D79-89B0-F67EA6CFA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20D124-74F3-41E1-AE27-7F0DED1C6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FEC303-D21A-4528-A788-254A26874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ED492B-5D4B-477A-B98B-04AFBAF9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DCC394-BE68-45D6-9D25-05B3882D1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3A5B57-FBBD-4310-B19C-43986067B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934264-CCC8-4C0A-AD67-A3DED8DA8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E3BBAF-3D00-4264-88C1-77D17A8F4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8FB773F-B8C2-4952-871D-54EDED780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6D658E-19DF-4A0C-9B5E-C6BD13740F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2D4DAE-A4E5-40E9-9EE7-9E7050FCD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F84BB7-03A8-46C0-A61A-AE30207CE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3E7103-6C37-428C-AE57-DD75A65C5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F3A3E35-CC90-420E-9443-38D66CDC6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7E3464-D171-4B28-8523-841B0C9EB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459DE5-73C3-4D38-8ACF-4B0FECB12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A05A2E-3EF5-4065-AA89-A881B13BD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C5C18D-1342-4D90-8E73-684BD7BEE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D35B42-E423-4C0D-8461-A8BE5FF65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C03879-82F3-436F-BD6F-9D6188DC7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0C926BB-FABF-4E15-A947-D162AC783B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148B48F-8ED4-4356-8D3A-9240E67FA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6995E69-C37C-4A3F-B540-C1B7D28B37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FD6AF0-6A57-4F0A-9DEB-9E942EE6C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331D43-332D-4F95-A31D-5A6270270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BA0D6A-596E-4FD0-9B41-ED810C6E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C862B5-283D-45DB-9845-3A68F07EB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ACE5BF-1A55-480F-B023-585D6803A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CA913F-D1A1-4C98-B8A1-91AAAA9FB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9BE436-B4E2-4CFD-98B4-377618E9D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158FA1-7DC3-453E-9B0D-D94EDEE3B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DB64E8-23D6-4698-947D-532890A88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FE5301-D4DC-4A5D-AAE4-0F88991F8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E9EA4F-A71B-414A-BC37-5C561D98C7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0FAF711-1AD6-4166-96D2-E103E2433F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CA9CEB-580C-43AB-8AA7-35DBA8D3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BBFCB9-A507-41E0-9B26-2A2CEBC9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ADD3A4-EBEA-433E-AB1A-DD475BCD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E32116-4647-4ED9-A18E-19A6BE4F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D4CD84-E256-4AAE-A428-428248134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205B16-F4EA-4E83-A9F3-52409AE648A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6AD2FB-DAE6-4556-B5AF-8114B73FBC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740CD-2A4B-42F1-AE76-1CCFD62A4C2E}"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C2A1D-AA09-4A29-AD4A-6D755317C0D3}"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1640" indent="-323640">
              <a:lnSpc>
                <a:spcPct val="10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5280" indent="-21564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7280" indent="-2160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547560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696920"/>
            <a:ext cx="6048360" cy="543240"/>
          </a:xfrm>
          <a:prstGeom prst="rect">
            <a:avLst/>
          </a:prstGeom>
          <a:noFill/>
          <a:ln w="0">
            <a:noFill/>
          </a:ln>
        </p:spPr>
        <p:style>
          <a:lnRef idx="0"/>
          <a:fillRef idx="0"/>
          <a:effectRef idx="0"/>
          <a:fontRef idx="minor"/>
        </p:style>
        <p:txBody>
          <a:bodyPr lIns="0" rIns="0" tIns="0" bIns="0" anchor="b">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30200" indent="0">
              <a:lnSpc>
                <a:spcPct val="97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3020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2120" cy="6299280"/>
        </p:xfrm>
        <a:graphic>
          <a:graphicData uri="http://schemas.openxmlformats.org/drawingml/2006/table">
            <a:tbl>
              <a:tblPr/>
              <a:tblGrid>
                <a:gridCol w="1709640"/>
                <a:gridCol w="1400040"/>
                <a:gridCol w="1481400"/>
                <a:gridCol w="1236600"/>
                <a:gridCol w="1282680"/>
                <a:gridCol w="1216080"/>
                <a:gridCol w="1255680"/>
              </a:tblGrid>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10440">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52604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            </a:t>
                      </a:r>
                      <a:r>
                        <a:rPr b="0" lang="en-GB" sz="1800" spc="-1" strike="noStrike">
                          <a:solidFill>
                            <a:srgbClr val="000000"/>
                          </a:solidFill>
                          <a:latin typeface="AngsanaUPC"/>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95760" y="4253760"/>
            <a:ext cx="9312480" cy="621720"/>
          </a:xfrm>
          <a:prstGeom prst="rect">
            <a:avLst/>
          </a:prstGeom>
          <a:noFill/>
          <a:ln w="0">
            <a:noFill/>
          </a:ln>
        </p:spPr>
        <p:style>
          <a:lnRef idx="0"/>
          <a:fillRef idx="0"/>
          <a:effectRef idx="0"/>
          <a:fontRef idx="minor"/>
        </p:style>
        <p:txBody>
          <a:bodyPr lIns="0" rIns="0" tIns="0" bIns="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79600" y="5038560"/>
            <a:ext cx="8708760" cy="18511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1240" y="3024360"/>
            <a:ext cx="8609040" cy="126360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8"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89" name=""/>
          <p:cNvSpPr/>
          <p:nvPr/>
        </p:nvSpPr>
        <p:spPr>
          <a:xfrm>
            <a:off x="741240" y="2101680"/>
            <a:ext cx="8609040" cy="264204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