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1916F-1862-43FB-B386-7C67E610F5A0}"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12920" y="1027080"/>
            <a:ext cx="4933800" cy="3700440"/>
          </a:xfrm>
          <a:prstGeom prst="rect">
            <a:avLst/>
          </a:prstGeom>
          <a:ln w="0">
            <a:noFill/>
          </a:ln>
        </p:spPr>
      </p:sp>
      <p:sp>
        <p:nvSpPr>
          <p:cNvPr id="19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2"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054AFC-07C2-4212-BF9B-95619A9305B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690A26-A53C-4A49-A0F1-48C518FE2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FBD254-F7CA-443F-B4E5-E0CAA18A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A8A3E3-319F-4106-BD5E-5FEBA78BB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92B8E2-9357-43C7-B074-E5BB4BDEE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A1CE0A-A25D-4DAF-918F-75035C101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FD05ED-1FCB-4129-B3B4-B7D55114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27A7B7-D810-457D-B3E7-9008872E1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C8A79C-3463-4C3F-B7F2-59CB33470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BC3CBF-3E83-408D-B83C-2EA6D224B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A5DE95-A3FD-4B5E-B4B3-41B1CE7A4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C37A07-E2E2-4AFB-92C9-4422966F2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83D13D-5225-4A80-A0BB-629BFD809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D447B9-8ACA-488D-A5FD-989D9785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D725EE-2FC0-4D10-A48E-B224A4E52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EE39FB-6D46-45C5-BD0B-39EBD5D11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760439-D9D7-411F-98B4-B8D728821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6FAF1A-2247-4F60-9C72-98CCE3775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5294E9-C59A-4F8E-82D3-DB81CF0D4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D84DFD-8267-473B-8EE0-CE17D92B7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0E8A2B-8229-4794-82F9-3679E8FEC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39B760-BF89-421C-9BD0-7092089F6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CBB4F0-0C7B-4753-848A-F504DB7F1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A3F036-F815-4066-9F7B-6ABC9229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F44187-EE87-4B76-B52F-AABD97A5A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48594E-B9DB-4165-95FA-21C8D35A8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AE172E-527B-4070-B379-705DAE951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EEF706-C7EC-4AA0-9D73-B1CBC6A53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623161-45E7-49C2-89B9-2E8AF9DD4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A700AC-6736-4D89-BDBF-645689466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D52756-5DB7-4CA0-A763-A2EBF0A0E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BE6CD79-C174-43EE-8526-50B1A014D1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1453AF-7038-49CE-9B4B-0CF42A709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025470-5794-4121-96F1-59602F920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80A2BB-5C97-4004-973C-54220A7EF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B69486-5BAC-4AA1-B70D-B018AB038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7AFE09-971A-4CF2-A7EF-CB3D5E26D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1C5601-49B0-4367-AE54-56561651A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EF5922-3298-4F8A-98B4-0AE13F8A6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BCC9A5-65E0-4A1E-B59E-D59191A8F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EEE7FC-8943-4E30-9ED8-88980FC9D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CFF7DE-4C4E-4526-AC7A-CD92B1E35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608A2C-0085-4383-A196-7804E1C734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4677F3E-E1B6-4422-8189-AAE9FB692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EA671F-A9F4-41C2-B74F-9C70EA07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4980CD-A36F-4D20-B411-F2F276BA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404268-A858-476C-AB8B-F20C8097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8433AC-7278-4AF8-BCBB-FDAD0289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CC49D7-E5C0-45DC-9C87-995399AEB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A41579-54AF-4A6A-9F10-B843C774EC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B0C75F-A17A-414D-B030-BCB4D54A59F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6EE04-1622-4889-B93B-B8F5D73B2EC5}"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67CF0C-938E-4E17-972D-1E939A28F05D}"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1640" indent="-323640">
              <a:lnSpc>
                <a:spcPct val="10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5280" indent="-21564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7280" indent="-2160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547560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696920"/>
            <a:ext cx="6048360" cy="543240"/>
          </a:xfrm>
          <a:prstGeom prst="rect">
            <a:avLst/>
          </a:prstGeom>
          <a:noFill/>
          <a:ln w="0">
            <a:noFill/>
          </a:ln>
        </p:spPr>
        <p:style>
          <a:lnRef idx="0"/>
          <a:fillRef idx="0"/>
          <a:effectRef idx="0"/>
          <a:fontRef idx="minor"/>
        </p:style>
        <p:txBody>
          <a:bodyPr lIns="0" rIns="0" tIns="0" bIns="0" anchor="b">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30200" indent="0">
              <a:lnSpc>
                <a:spcPct val="97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3020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2120" cy="6299280"/>
        </p:xfrm>
        <a:graphic>
          <a:graphicData uri="http://schemas.openxmlformats.org/drawingml/2006/table">
            <a:tbl>
              <a:tblPr/>
              <a:tblGrid>
                <a:gridCol w="1709640"/>
                <a:gridCol w="1400040"/>
                <a:gridCol w="1481400"/>
                <a:gridCol w="1236600"/>
                <a:gridCol w="1282680"/>
                <a:gridCol w="1216080"/>
                <a:gridCol w="1255680"/>
              </a:tblGrid>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10440">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52604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            </a:t>
                      </a:r>
                      <a:r>
                        <a:rPr b="0" lang="en-GB" sz="1800" spc="-1" strike="noStrike">
                          <a:solidFill>
                            <a:srgbClr val="000000"/>
                          </a:solidFill>
                          <a:latin typeface="AngsanaUPC"/>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95760" y="4253760"/>
            <a:ext cx="9312480" cy="621720"/>
          </a:xfrm>
          <a:prstGeom prst="rect">
            <a:avLst/>
          </a:prstGeom>
          <a:noFill/>
          <a:ln w="0">
            <a:noFill/>
          </a:ln>
        </p:spPr>
        <p:style>
          <a:lnRef idx="0"/>
          <a:fillRef idx="0"/>
          <a:effectRef idx="0"/>
          <a:fontRef idx="minor"/>
        </p:style>
        <p:txBody>
          <a:bodyPr lIns="0" rIns="0" tIns="0" bIns="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79600" y="5038560"/>
            <a:ext cx="8708760" cy="18511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3024360"/>
            <a:ext cx="8609040" cy="126360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8"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89" name=""/>
          <p:cNvSpPr/>
          <p:nvPr/>
        </p:nvSpPr>
        <p:spPr>
          <a:xfrm>
            <a:off x="741240" y="2101680"/>
            <a:ext cx="8609040" cy="264204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