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3E03F-9074-4C5A-8258-4F262F24CBDC}"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12920" y="1027080"/>
            <a:ext cx="4933800" cy="3700440"/>
          </a:xfrm>
          <a:prstGeom prst="rect">
            <a:avLst/>
          </a:prstGeom>
          <a:ln w="0">
            <a:noFill/>
          </a:ln>
        </p:spPr>
      </p:sp>
      <p:sp>
        <p:nvSpPr>
          <p:cNvPr id="197"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98"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14BF6-5F34-4B1A-B7FB-C6ACBD7C53A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C20BFBD-9435-4499-BD0E-A85FAB12F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6"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6328FF-B0B9-470E-B749-3A8A0F78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3254915-ECF3-4A0F-A0E9-BA1A005E6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4"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59CC352-B540-401D-9243-25C16DE29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B40BC9B-590D-42A2-AD1D-8FFF45D66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BA7891-538F-47A7-8E1D-F944FC0E5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B4DF7D-1D3D-460B-891D-268B7D3F2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EE4B7B-797D-4623-B1E8-9D12785CE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42006F-3D05-4F45-8A27-65AA4B649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489724-CCC6-45EF-B772-F8F809915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6B268F-7A50-4860-8A86-46CE166F0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F5410F-A36D-4816-B449-E688D1C54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C187D7-9411-445A-A909-BB02BF1A0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A5EAA1-3F40-420C-97BE-1968D04EC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FAD8EB-3744-44D6-A386-D9F123D50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EE1B104-0C06-4DDC-B788-955D423B2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50918DF-2F2F-42DF-8214-D13DAE424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A8FD7B-CFDE-485B-83AF-D6EFD5BF5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0A112F-892C-450F-B7D8-C55580A66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51DF17-06E4-446A-A719-3AA4D1CBF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B857B6-7C5E-4429-8449-917298C4D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8A6D0B-0B57-41EE-A067-07C91735C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2C4930-1540-4D6E-89A8-F75AA9610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8AFAF0-7A31-446C-B33A-A98A38C3E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F807F1-7111-43C9-846E-251020910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0560A9-512E-46C9-8285-92F1B58F1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9D3B70-A92A-472F-B58A-6719D8B68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2624DC-2A99-41F3-BE37-616D87B16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CD9213-BF56-4690-AEB6-03E4FC0146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D95DEB-2B22-4600-8E59-6073A18038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9ABC66-75B7-4922-B304-C085331F5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7"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DE141E2-3470-48E1-956C-0A8BBB38D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9"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73BF44-D369-483D-A586-CB1DF91E6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BFAC6D-E3F2-4965-B325-2AEA0835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1"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F1E3AA-2BAB-4107-AB14-22D5218A8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D8331CF-9E5B-4215-BC26-DF2D188B6A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09355A-782F-4331-A3F4-096293C24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90F5EE5-1609-42A9-A4DF-AD50690EC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D23B1D-652C-4B04-AD1B-0A5354A05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4A6561-C555-457B-97D6-823E764C1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8"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006F9D-E2F0-4B6F-894D-CEFA15508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7C9FA62-31F8-42BB-A629-05C1DB0A2A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6"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3D9DB6C-A28A-4C76-BDF6-A2C278F752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1C0104-10D1-4DAD-A1A1-A355D1315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05DAB1-70EF-421C-BF88-3AB1B458D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674034-496D-417F-B260-F4A2F5AA4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8"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0E0372-5495-40C8-8076-B6AF3444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2"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9FDF41-82CB-4408-8C39-A37A7CCF1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6A6D08-90CC-4692-AA2D-0A0A4C57813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1ECE9-1EB9-43FC-A0AB-A5CA7E11E96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714EF8-6371-4D9F-9211-BF836EB3D4AA}"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83CF6-215E-450C-B6AC-655F0426B445}"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0200" indent="-324000">
              <a:lnSpc>
                <a:spcPts val="3212"/>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3840" indent="-21600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5480" indent="-21420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7480" indent="-2160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7480" indent="-2160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7480" indent="-2160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87040"/>
          </a:xfrm>
          <a:prstGeom prst="rect">
            <a:avLst/>
          </a:prstGeom>
          <a:noFill/>
          <a:ln w="0">
            <a:noFill/>
          </a:ln>
        </p:spPr>
        <p:style>
          <a:lnRef idx="0"/>
          <a:fillRef idx="0"/>
          <a:effectRef idx="0"/>
          <a:fontRef idx="minor"/>
        </p:style>
        <p:txBody>
          <a:bodyPr lIns="0" rIns="0" tIns="0" bIns="0" anchor="t">
            <a:spAutoFit/>
          </a:bodyPr>
          <a:p>
            <a:pPr marL="430200" indent="-324000">
              <a:lnSpc>
                <a:spcPts val="3212"/>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195" name=""/>
          <p:cNvSpPr/>
          <p:nvPr/>
        </p:nvSpPr>
        <p:spPr>
          <a:xfrm>
            <a:off x="741240" y="2101680"/>
            <a:ext cx="8609040" cy="2379960"/>
          </a:xfrm>
          <a:prstGeom prst="rect">
            <a:avLst/>
          </a:prstGeom>
          <a:noFill/>
          <a:ln w="0">
            <a:noFill/>
          </a:ln>
        </p:spPr>
        <p:style>
          <a:lnRef idx="0"/>
          <a:fillRef idx="0"/>
          <a:effectRef idx="0"/>
          <a:fontRef idx="minor"/>
        </p:style>
        <p:txBody>
          <a:bodyPr lIns="0" rIns="0" tIns="0" bIns="0" anchor="t">
            <a:spAutoFit/>
          </a:bodyPr>
          <a:p>
            <a:pPr marL="430200" indent="-324000">
              <a:lnSpc>
                <a:spcPts val="3212"/>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2320"/>
            <a:ext cx="6048360" cy="537840"/>
          </a:xfrm>
          <a:prstGeom prst="rect">
            <a:avLst/>
          </a:prstGeom>
          <a:noFill/>
          <a:ln w="0">
            <a:noFill/>
          </a:ln>
        </p:spPr>
        <p:style>
          <a:lnRef idx="0"/>
          <a:fillRef idx="0"/>
          <a:effectRef idx="0"/>
          <a:fontRef idx="minor"/>
        </p:style>
        <p:txBody>
          <a:bodyPr lIns="0" rIns="0" tIns="0" bIns="0" anchor="b">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8760" indent="0">
              <a:lnSpc>
                <a:spcPct val="96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87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80320" cy="6297480"/>
        </p:xfrm>
        <a:graphic>
          <a:graphicData uri="http://schemas.openxmlformats.org/drawingml/2006/table">
            <a:tbl>
              <a:tblPr/>
              <a:tblGrid>
                <a:gridCol w="1709640"/>
                <a:gridCol w="1400040"/>
                <a:gridCol w="1481400"/>
                <a:gridCol w="1236600"/>
                <a:gridCol w="1282680"/>
                <a:gridCol w="1216080"/>
                <a:gridCol w="1253880"/>
              </a:tblGrid>
              <a:tr h="98172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508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70760">
                <a:tc>
                  <a:txBody>
                    <a:bodyPr lIns="45720" rIns="45720" anchor="t">
                      <a:noAutofit/>
                    </a:bodyPr>
                    <a:p>
                      <a:pPr>
                        <a:lnSpc>
                          <a:spcPts val="26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836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508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8172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2400" y="4259520"/>
            <a:ext cx="9312480" cy="514440"/>
          </a:xfrm>
          <a:prstGeom prst="rect">
            <a:avLst/>
          </a:prstGeom>
          <a:noFill/>
          <a:ln w="0">
            <a:noFill/>
          </a:ln>
        </p:spPr>
        <p:style>
          <a:lnRef idx="0"/>
          <a:fillRef idx="0"/>
          <a:effectRef idx="0"/>
          <a:fontRef idx="minor"/>
        </p:style>
        <p:txBody>
          <a:bodyPr lIns="0" rIns="0" tIns="0" bIns="0" anchor="t">
            <a:spAutoFit/>
          </a:bodyPr>
          <a:p>
            <a:pPr>
              <a:lnSpc>
                <a:spcPts val="20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104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30200" indent="-324000">
              <a:lnSpc>
                <a:spcPct val="96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30200" indent="-324000">
              <a:lnSpc>
                <a:spcPct val="96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4360" cy="7093080"/>
        </p:xfrm>
        <a:graphic>
          <a:graphicData uri="http://schemas.openxmlformats.org/drawingml/2006/table">
            <a:tbl>
              <a:tblPr/>
              <a:tblGrid>
                <a:gridCol w="1433520"/>
                <a:gridCol w="1435320"/>
                <a:gridCol w="1433520"/>
                <a:gridCol w="1434960"/>
                <a:gridCol w="1433520"/>
                <a:gridCol w="1433520"/>
              </a:tblGrid>
              <a:tr h="6307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9748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9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1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56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6604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56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768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