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A8575F-C0C0-4D18-A898-EC8D105F352E}"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12920" y="1027080"/>
            <a:ext cx="4933800" cy="3700440"/>
          </a:xfrm>
          <a:prstGeom prst="rect">
            <a:avLst/>
          </a:prstGeom>
          <a:ln w="0">
            <a:noFill/>
          </a:ln>
        </p:spPr>
      </p:sp>
      <p:sp>
        <p:nvSpPr>
          <p:cNvPr id="197"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8"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A29CB-A901-4FD4-8A6D-67AFD0E9060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D44611-0DB7-4F02-8F45-72EC93734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80B22D-340D-462C-88FA-E7C5C44C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26666B-6ADC-41F1-96D7-98D513266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A42F76-59CD-436C-A10E-A2AF1F543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903CA8-7C72-4252-9446-C587BC58A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CFCE51-C89E-49F4-9E5F-C4E144E69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BBCFB0-41B4-4268-B9F5-B8FE0CEC8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E7A4E0-F30A-4F53-AD1D-6478E3EBF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D9FCE2-3EDC-4B6C-9C44-D09255FEF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A5BB94-C748-4B39-B985-EE823C071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603907-5D64-41C7-B95A-65A627F8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31AC72-6C86-4A07-AC83-0664C8B2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7B3651-BFA0-4DEB-9FF4-E95315B65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269943-C5AF-4E99-B003-155ED297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465FB2-0C2B-4AEE-8E90-BE25296E6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0913EA-1EF3-4AF3-A83E-C7B4A1CC1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965917-C581-4043-9060-C1D3D4557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C5ACF8-9C0D-4014-9483-A31034D26C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5FF441-DC09-4844-B825-C9267F729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23F064-B98E-49F8-A61B-B35CEE8D3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36C5C0-EFAB-4223-9327-CE0A293D8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F16436-4E7C-42E6-A41B-E52FB6094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9E5CE7-75DC-4F06-9C30-F241520F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ADE98F8-4390-4910-ADF7-E27EC6464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98CFAF-072A-4116-BDB4-B9952177B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699C9E-92E5-42B4-B7EC-D6B6FEA9F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55D4CB-7687-4931-AFC7-B075CFB38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CDF014-80FD-445D-8A14-48D0A5515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7D1F73-42ED-4D0D-A747-05E68876A3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C0EE2F7-A51B-4DEB-9BF5-E81C282C3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740996-A2E3-494F-9464-14961D36C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D20EAE-2243-45AC-89F7-E0FF1E87C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70719D-DADA-434D-AEAB-9B1B81895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2DA8C1-14D6-44A6-BFEE-3F10B883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835CF4-64BD-4A53-A77E-3DC8518F1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4681E3-3F1C-4D0E-B32B-43D4A481A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8D9074-32D2-4B49-B803-A41F90039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905813-5FCC-4E4B-A108-A7B02C2B2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627369-94A5-4442-AFE2-C6617F1CE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684CA7-A536-4CAE-A781-A79C2DCE2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2AD54E-7422-4E63-B422-E3EAE99E72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6BDFE9-0379-4339-A782-3DDEE10D9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E90EDE-8B28-4174-B9FB-FB51FAE38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53CFA5-8726-4828-AF5A-F52F3D21B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00E432-DD56-46AF-AC28-26FA95A88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A92FE8-2409-4DF6-BE97-EDD3642DE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BEBBD6-BAF1-4B6C-AECB-3B7B84017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FB9D54-8DAC-4359-A2E6-D055F71A9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38393-5F41-4A72-B083-716DC909946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9D3BD-8D35-42AD-9165-E59BD610D30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343DC-FD7B-4693-8734-D081FF40C4AB}"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98274-116B-467B-9B2D-F44B7404F1BF}"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0200" indent="-324000">
              <a:lnSpc>
                <a:spcPts val="3212"/>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3840" indent="-21600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5480" indent="-2142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7480" indent="-2160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8704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95" name=""/>
          <p:cNvSpPr/>
          <p:nvPr/>
        </p:nvSpPr>
        <p:spPr>
          <a:xfrm>
            <a:off x="741240" y="2101680"/>
            <a:ext cx="8609040" cy="237996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2320"/>
            <a:ext cx="6048360" cy="537840"/>
          </a:xfrm>
          <a:prstGeom prst="rect">
            <a:avLst/>
          </a:prstGeom>
          <a:noFill/>
          <a:ln w="0">
            <a:noFill/>
          </a:ln>
        </p:spPr>
        <p:style>
          <a:lnRef idx="0"/>
          <a:fillRef idx="0"/>
          <a:effectRef idx="0"/>
          <a:fontRef idx="minor"/>
        </p:style>
        <p:txBody>
          <a:bodyPr lIns="0" rIns="0" tIns="0" bIns="0" anchor="b">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876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87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0320" cy="6297480"/>
        </p:xfrm>
        <a:graphic>
          <a:graphicData uri="http://schemas.openxmlformats.org/drawingml/2006/table">
            <a:tbl>
              <a:tblPr/>
              <a:tblGrid>
                <a:gridCol w="1709640"/>
                <a:gridCol w="1400040"/>
                <a:gridCol w="1481400"/>
                <a:gridCol w="1236600"/>
                <a:gridCol w="1282680"/>
                <a:gridCol w="1216080"/>
                <a:gridCol w="1253880"/>
              </a:tblGrid>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70760">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836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2400" y="4259520"/>
            <a:ext cx="9312480" cy="514440"/>
          </a:xfrm>
          <a:prstGeom prst="rect">
            <a:avLst/>
          </a:prstGeom>
          <a:noFill/>
          <a:ln w="0">
            <a:noFill/>
          </a:ln>
        </p:spPr>
        <p:style>
          <a:lnRef idx="0"/>
          <a:fillRef idx="0"/>
          <a:effectRef idx="0"/>
          <a:fontRef idx="minor"/>
        </p:style>
        <p:txBody>
          <a:bodyPr lIns="0" rIns="0" tIns="0" bIns="0" anchor="t">
            <a:spAutoFit/>
          </a:bodyPr>
          <a:p>
            <a:pPr>
              <a:lnSpc>
                <a:spcPts val="20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104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4360" cy="7093080"/>
        </p:xfrm>
        <a:graphic>
          <a:graphicData uri="http://schemas.openxmlformats.org/drawingml/2006/table">
            <a:tbl>
              <a:tblPr/>
              <a:tblGrid>
                <a:gridCol w="1433520"/>
                <a:gridCol w="1435320"/>
                <a:gridCol w="1433520"/>
                <a:gridCol w="1434960"/>
                <a:gridCol w="1433520"/>
                <a:gridCol w="1433520"/>
              </a:tblGrid>
              <a:tr h="6307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974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9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1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6604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76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