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5F71-397D-41BA-812C-31022553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5C03-05D7-4A89-8FDC-7CE6E0D5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8CE4-CB6D-41E3-9AAC-F748AB8E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4077-CE66-4EBD-AE98-15AEAA4F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CFF66-4E15-4125-9D79-67740E91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D3951-49E8-42BD-A0E0-D46ABEE1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E2032-33A3-40A4-997E-EDE7B35A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35F24-D02E-429C-9A00-1C6F5D21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C8F6D-0F4C-4420-81A5-58BD601D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D0584-27C0-4DF0-B415-37CE781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85427-155A-4B80-8379-2D8A37B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4D70-201F-48BD-861A-2FFBAEF0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368E6-A4B1-4815-8A2F-0242C10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FA7F6-FFB2-4298-AF08-F445B0D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D89CA-9F6C-4349-A0A9-9B51DB55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CE96B-BE2B-40B4-887C-A19D5016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8845A-256E-4A5F-BFA3-C1732E51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A49F-4795-4BD8-97F5-9C475B39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35E3-F274-439E-95CD-04A1CE2E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990D-E21B-47F9-BC36-E5098EC8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9D35-4C08-4C2D-82F7-8D300209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453C-9E75-4F8D-997F-4283E180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A091-D402-4904-BAF0-8C25D37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4E3B-C8A8-4C84-810D-E3EEB1A0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088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835440" y="7039080"/>
            <a:ext cx="2419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1319F-8240-42A6-A209-69553578C3D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632412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1240" y="302400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74088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3835440" y="7039080"/>
            <a:ext cx="2419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F3F7D-761D-40A7-A720-5A93B26BE1A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6"/>
          </p:nvPr>
        </p:nvSpPr>
        <p:spPr>
          <a:xfrm>
            <a:off x="632412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8160" y="801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06520" y="22622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 color&amp;sm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water: clear,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ater: clear,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: clear,strong 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negar: clear, od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e Juice: purple reddish dark,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monade: Yellow, lemon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