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B0F6-9A02-4543-A8EB-E41D1F34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E1D4-2AD2-4843-8D8D-38D93612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EB4C-585A-4C7A-9D3E-6AF2A94B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F0E9-982F-408F-A651-01D21EF5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DDC08-A825-43BE-874B-8A08DF02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39AA8-E2AA-4A67-A138-BAAEB90B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BF5D7-4399-4DEC-9197-0022C7E7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CFBA2-C4C9-49AB-9D35-62C31446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7A47A-E084-4AB7-B161-FEB88781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23415-736C-4BFB-9DD0-15281200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3CFE4-FDE3-40F4-94FA-F8E6B1BD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2DF1-4145-423B-A859-E8A12C57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C206D-CD81-4792-8782-7AA399BC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FE0B7-686B-46A7-9226-00FD5604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A8871-1DA3-4A6D-95A6-BB022541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46B2E-22CD-417B-A12F-B79A9390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5495C-3435-4B54-BA5E-A5CBCB1B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7837-7BB4-4064-8F50-77D4798E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1D83-E8A2-45C2-8150-FADF50A6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8177-FD7A-46A6-99FE-7AD8483B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B49E-0530-4B77-82FD-E17B98BC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F5176-7AF5-4D7D-B4DC-B3D3C823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15FC-76AE-4494-B85E-A7673C7D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5218-502E-4534-8D43-0DC602F5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088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835440" y="7039080"/>
            <a:ext cx="2419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3E7AD-1515-43B6-BCB6-019809345F6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632412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1240" y="302400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74088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3835440" y="7039080"/>
            <a:ext cx="2419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5F738-9C0C-455C-A9D5-7505313B8C6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6"/>
          </p:nvPr>
        </p:nvSpPr>
        <p:spPr>
          <a:xfrm>
            <a:off x="6324120" y="7039080"/>
            <a:ext cx="3024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8160" y="801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06520" y="226224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ink Lab: color&amp;sm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e water: clear,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ater: clear,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: clear,strong 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negar: clear, od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pe Juice: purple reddish dark,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monade: Yellow, lemon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