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267D-04AC-48FA-9A6A-78678F61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3459-3050-412E-B990-16E979E1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468F-00AC-401D-86CD-3F5B9313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B0C4-1EDB-4B80-AA89-25FB8B4F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6E932-D996-4677-8C0C-63405FAD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A9A54-DC14-45B3-8969-77C42E3B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7B9D1-4FC5-48AF-A26B-F37D8772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90E5B-890C-45E5-9CC3-4C21A4F5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1E61F-1347-4DA1-8E5C-A3CF552A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AF989-55BA-490F-AF90-AA6F5A15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4F02D-F4DC-423D-85E1-5A04A2A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9C1F-B2DD-475C-8616-3E5EBEB4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DDD95-C02A-4144-86D1-C68ABA72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11B1D-7A8E-471B-9BC8-EE27AF4A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66BFB-5864-4DFB-8218-5C75E441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B93F5-0596-4304-A78A-AB6407D7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BDCDB-7C20-4999-AC72-F9D1F2CD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E5459-3BF2-4341-9DB1-CBDE1DD2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4C3C-248E-4B66-82A2-8499917E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6DF3-679A-4D03-93AC-2B8D2119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6AE0-13B8-402E-BC0F-474FE281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F8BF-0CB8-4407-AB9D-650464EB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71DF-2D7F-4147-B954-F81DC913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3CD3-97FE-4170-851B-F1A35C1F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088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835440" y="7039080"/>
            <a:ext cx="2419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F6715-5035-4FB8-B826-EB8287441C9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632412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1240" y="302400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74088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3835440" y="7039080"/>
            <a:ext cx="2419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4E39D-DBF8-4798-B6AF-176AB8D2C0F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6"/>
          </p:nvPr>
        </p:nvSpPr>
        <p:spPr>
          <a:xfrm>
            <a:off x="632412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8160" y="801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06520" y="226224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 color&amp;sm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e water: clear,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ater: clear,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: clear,strong 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negar: clear, od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pe Juice: purple reddish dark,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monade: Yellow, lemon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