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5D99F-6E9A-4A5F-B4D6-ACFB39B0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971E5-FC70-4A1D-9EA9-0ABFA832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7375F-2CBE-46D3-AF86-EF4F999D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006E4-0FB4-44B5-BBA6-6708D68F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200DA-8E9C-4710-A57F-95EA8FB0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5E5D1-9F0C-4DC7-B248-693C86C5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8AEC9-05AA-46AE-90E0-60CA9478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C4B5F-B11F-45A9-AC71-F25BA315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D9D0D-0B40-4776-9D61-CD6C201F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F2A16-8E1E-4710-83F2-F5C8D656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7B3D9-6F20-4266-BAE6-F83B8EEF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D02A-6A4A-4EE4-8703-92493433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41AF3-F024-4671-981F-64DFACDF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978A1-33AD-455E-9820-244AC69B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05888-5A91-4463-AA4A-FE93CF67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D0A8D-7BA1-4DA6-A0F6-CF821E7E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DA67C-53E9-429E-8E67-AB055D54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2C828-7AEF-4724-A6BD-1AAB7B07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094EA-59A5-4299-A97C-9F8638BA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95228-F363-47DC-B9BB-9963F461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0706C-66B7-438C-B630-75AC8652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CB02D-E6D1-4D1D-9F9B-3EAE753F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D5F85-3C37-430E-8F95-6BD19B7B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E627F-6835-459E-8420-ED96E4CF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0880" y="7039080"/>
            <a:ext cx="3024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3835440" y="7039080"/>
            <a:ext cx="2419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8C5A1-91FF-44CF-A217-5FA5F72FE89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6324120" y="7039080"/>
            <a:ext cx="3024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41240" y="302400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740880" y="7039080"/>
            <a:ext cx="3024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3835440" y="7039080"/>
            <a:ext cx="2419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3D60A-08FF-4E2D-9ACA-0A0789F39A7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6"/>
          </p:nvPr>
        </p:nvSpPr>
        <p:spPr>
          <a:xfrm>
            <a:off x="6324120" y="7039080"/>
            <a:ext cx="3024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8160" y="801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ink Lab: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06520" y="2262240"/>
            <a:ext cx="571500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ink Lab: color&amp;sm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e water: clear,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ater: clear,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: clear,strong 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negar: clear, od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pe Juice: purple reddish dark,gr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monade: Yellow, lemon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